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1F5B0-D9B1-4CC8-B5DE-781A1884B0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C943F-C9A5-425B-807C-BF20EDE33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CA358-0625-45D6-A4B9-D0E8EEE92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853CD-FF14-442E-A7EA-2C9F557CE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2BA82-F904-4CDB-9182-2E1E74D52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E8730-7F02-411B-A79B-BDB5936FB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CC9-68BE-4B12-A6EB-09629A47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3769-A67C-4841-B95E-C37E3DE5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E01B-4421-4E69-9F7A-FFE6557C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A9EC-AB20-4633-B554-B0D5CB15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9CF8-3D1A-489E-B755-FDE07F41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5823-1140-49E3-A59D-7BA825CC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6E0A-2A97-447A-B156-7668B4F8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6D85-F649-4B27-BDBD-C41992F0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A109-7DEC-4BFF-8389-50C316C2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E238-6B62-48DF-8FBE-72C2C2BD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963-E157-4D92-962C-35893C2E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4E3-82F0-4EA7-9901-B3B5EB1B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D64DC-197B-4ACD-A5D3-159F4509FC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B6165-932D-47C6-9771-8CB6501CA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CT 333: Imagining the Audience in a Wired Worl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9:  Scenarios and Requirements/Complex Interactions/ Activity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oritization (MoSCoW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st have (without this, it’s usel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uld have (would be a clear value-added requirement but will work without i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uld have (might be nice but not essenti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ant but Won’t have (can wait until future iter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oritization is important – you can’t often do it all, and it’s often a bad idea even if you cou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 final project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conceptual scenarios from which more specific concrete and use case stories can be derived (no need to do that here thoug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ories should be of technology issu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they exist now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don’t tell stories of redesigned technology (in other words, it’s not a marketing gimmic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 per person in group minimum - should be a broad enough collection of stories to envelop complexity of potential uses and fail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 and to the point - no fil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nk order requirements (either within scenarios or collectively, your choi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quirements should be what your redesign aims to sol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lexity and Inte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technologies may get more complex to use when more people are involv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ing for lots of simultaneous users can be daunting (e.g., scalability in web desig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ask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lowcharting interaction patterns - order of actions, decisions ma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fficulties in representing multiple actors, especially when actors act at different times (conflict in swimlanes, delays in proces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stributed Cog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ople interact with other people using other tools to realize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unication and coordination becomes essential - interaction challeng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nal/External/Sha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nal representations - individual mental models of re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ternal representations - anything outside individual that guides activity (e.g., layout, notes, diagram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ared representations - individuals come together over external representations to create shared understanding (or confusion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lans and Situated 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eats user interaction as a set of defined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lans in context - often contingent and less cut and dry than exp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umans don’t crash when plans fail - we adapt, create new plans on the f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Xerox technician example – formalized plans complimented by dialogue, sharing of st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nowledge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ing and sharing shared represen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cit and explicit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iral” of knowledge – from individual to organization, tacit to explicit (Nonaka and Takeuchi, 199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I and 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cialization: engagement with others, often driven and shaped by tacit knowled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ternalization: conversion of tacit knowledge to explicit knowled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bination: analysis and reformatting of explicit knowledge into new knowled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rnalization:  reintegration into tacit knowledge (learning by do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a: a diffuse concept regarding shared knowledge ecology/environme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ivity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resents complexity of interaction among subjects, objects, artefacts and cultural expec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a theory, can be hard to use in practice - but also quite power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es on Final Assig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enarios/Requirements next week – starting with notes on that right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feedback now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ing existing tech 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magic solutions, pl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1371600" y="1600200"/>
            <a:ext cx="6629400" cy="44197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3048120" y="38098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3048120" y="3809880"/>
            <a:ext cx="175248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5"/>
          <p:cNvSpPr/>
          <p:nvPr/>
        </p:nvSpPr>
        <p:spPr>
          <a:xfrm flipV="1">
            <a:off x="4876920" y="3809520"/>
            <a:ext cx="144756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264560" y="10666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tefa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88200" y="339264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901560" y="3392640"/>
            <a:ext cx="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84720" y="601992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ax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194720" y="609588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7770600" y="6035760"/>
            <a:ext cx="11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vision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b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des in Activity Tria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bject -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bject - goal, t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tefact - tools,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unity - others affected by the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vision of Labour – the role of power relations in accomplishing t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axis – norms/mores governing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tradi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mary - conflict at node (e.g., two subjects having different no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condary - conflict between nodes (e.g., power relations interfering with successful formation of objec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rtiary - conflicts when activities are redesigned (e.g., change in model conflicts with old expec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uarternary - conflicts between simultaneous activities (e.g., one activity diagram contradicts anoth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ample: C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llaborative virtual environments - VR which embodies user in virtual 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ffords interaction with other embodied users in real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cond Lif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VEs in Con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esting way to bridge distance g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ime gaps a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ientation issues in virtual world - people talking to walls, etc. (and why it doesn’t mat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fusing spaces and avatars - fantastic displays but for what purpo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ivity Theory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bjects - conference attend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bject - engage in collaboration, tal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tefacts - virtual conference environment, posters, websit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unity - attendees, lu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vision of Labour - who is/is not allowed to talk at any given time, access restri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axis - expectations of conference environment, turn-takin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Wee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 15:  Prototyping (no lab assignment – just time for working on proje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 22:  Test Review/Presentations of Final Redesigns in 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 29:  Test (no lab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ena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narrative that is accessible and useful to explain problems to stakehol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narrative that outlines complexity to designers in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narrative that is shaped both by designers and users - and increasingly shaped by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enario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s for understanding of many effects at many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s you to set the tone of redesign and sell it effectively to bosses, user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velops external factors/constr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lls the problem – makes your solution the obvious one, bu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enarios are not about your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r St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ecdotes, observation, interview transcripts can directly yield information for scen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uld be told as close to user’s direct experience as possible - in their own words expressing their own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ft just at this level - just a collection of interesting stories, no attempt at creating common t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ceptual scena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entification of common themes and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s conceptual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d for generating ideas for design alternatives, specifying requi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e level of abstraction from user stories - but does not yet address how technologies resolve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crete scena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s requirements from conceptual scenarios more concre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erates on physical/prototypical mod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rts involving technologies and interaction patterns at a general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y be many concrete scenarios from one conceptual scen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C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malized interaction patter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 design questions resolv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 be modeled using formal procedures and language (e.g., HTA, U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software, this is “pseudocode” - in hardware, the first functional it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rom user stories and conceptual scenarios, build a list of what the technology should (and should not) be able to 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nctional (e..g., task oriented - what it does) or non-functional (e.g., aesthetic, legal, cultural, ease of use issu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6:39:33Z</dcterms:created>
  <dc:creator>Sheridan College</dc:creator>
  <dc:description/>
  <dc:language>en-US</dc:language>
  <cp:lastModifiedBy>Sheridan College</cp:lastModifiedBy>
  <dcterms:modified xsi:type="dcterms:W3CDTF">2010-03-08T17:03:13Z</dcterms:modified>
  <cp:revision>3</cp:revision>
  <dc:subject/>
  <dc:title>Slide 1</dc:title>
</cp:coreProperties>
</file>